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990-6EC4-4018-94BD-E5081412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713-2DA4-4280-9051-837B5068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B1A-846D-4834-A4E3-BC4E2C9D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C35-4431-4976-9E08-6BE4277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AFF-BFB4-4894-8173-C295F79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FC4-CEA9-4831-89AA-AF742714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036-D2ED-4C48-BA7C-1614500B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FAC-0981-4D8C-8362-7B195634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FF9-50E6-427E-B23D-29C9E021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6DD-D097-4C5C-A82E-4FA68D8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325-16D7-4C5D-9471-07921FEC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7CC-96B8-485C-9F89-B33B206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1E6E-2ADE-49BF-825A-713F233A862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to the guide. Don't make any no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alk quietly. Don't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peak softly. Don't sh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ok for informations on memor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6760" y="1768320"/>
            <a:ext cx="71992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't talk. Be qu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aps. Leave them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food, no drink. Lunch in the loung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 chew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kind. Don't be nas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polite. Don't be ru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e on your best behavi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1-31T18:23:10Z</dcterms:modified>
  <cp:revision>14</cp:revision>
  <dc:subject/>
  <dc:title/>
</cp:coreProperties>
</file>